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F6C4-8D43-4BF3-8F8A-636E7C9DF3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 I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can be calculated using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cals or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 In soli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can be calculated using the following equa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cals or N/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In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In liquid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make things turn or rotate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used by forces but are not forces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 will be bigger i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causing the turning effect is big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is further from the piv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make things turn or rotate. 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y are caused by forces but are not forces themselve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moment will be bigger if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causing the turning effect is bigger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is further from the piv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 = Force x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 = Force x Dista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clockwise Moment = Clockwise Mo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moment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ti-clockwise Moment = Clockwise Mo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ALANC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t moment is zer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2DB-28A9-46DA-8BAD-C6B389FA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E04-BE51-4502-9C07-C19C623A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FD3-3B3E-48B7-9369-16B5C459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62E-A238-49FF-9474-EFD8F354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FD18-56D3-4E9A-903C-0E078836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BE30-E3FD-45D9-9AFB-81BB0692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CE2C-6201-42FB-A5C7-5441923C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1164-DD5D-4449-923E-01A0F191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7C90-7407-468D-A594-C627F5C9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A745-9DD5-4969-B383-E8B75192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339B-1154-4485-9AF1-77D89593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B68-3884-4526-8EF7-FB219441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ED5F-E25C-420D-8DCD-AA78DC8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AC8B-845B-406D-BF4A-36AB18FF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BBAD-C032-4355-9EA0-867AE455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00A5-8A0F-49BD-9B39-5449A51A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7ABD-BFEE-4AF6-987F-F69BBD7F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4AB-0DAD-483A-BFAE-E49E0ABE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C0C-E670-446D-8A6B-4CF013BE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820-53FA-4961-B7C0-C9DC7B72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B8A-5DC2-468C-A1A1-D09DC4B8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99D-620B-4E6B-B420-E1C56DDD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3A5-7F39-4B07-83D0-5EF5DB8E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EAC-C56D-4587-9B6A-9AEFFABA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50F7-898A-4AF0-A586-75C267B128F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2CD4-70A0-4E45-8414-230D1E213FF5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7"/>
          <p:cNvSpPr/>
          <p:nvPr/>
        </p:nvSpPr>
        <p:spPr>
          <a:xfrm>
            <a:off x="179280" y="189000"/>
            <a:ext cx="439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Pressur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and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Mo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http://www.s-cool.co.uk/g-/phy-/forces-/g-phy-forces-rs_files/image00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3068640"/>
            <a:ext cx="4589280" cy="1425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59" name="Rectangle 5"/>
          <p:cNvSpPr/>
          <p:nvPr/>
        </p:nvSpPr>
        <p:spPr>
          <a:xfrm>
            <a:off x="900000" y="473400"/>
            <a:ext cx="5194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Pressure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-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 soli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Verdana"/>
                <a:ea typeface="Times New Roman"/>
              </a:rPr>
              <a:t>If a force is applied over a smaller surface area you get a larger pressur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Pressure can be calculated using the following equatio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580000" y="31417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021800" y="3068640"/>
            <a:ext cx="145008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AutoShape 8"/>
          <p:cNvSpPr/>
          <p:nvPr/>
        </p:nvSpPr>
        <p:spPr>
          <a:xfrm rot="5400000">
            <a:off x="4249440" y="46879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AutoShape 9"/>
          <p:cNvSpPr/>
          <p:nvPr/>
        </p:nvSpPr>
        <p:spPr>
          <a:xfrm rot="7363800">
            <a:off x="312840" y="4600800"/>
            <a:ext cx="2303280" cy="925200"/>
          </a:xfrm>
          <a:custGeom>
            <a:avLst/>
            <a:gdLst>
              <a:gd name="textAreaLeft" fmla="*/ 359640 w 2303280"/>
              <a:gd name="textAreaRight" fmla="*/ 2015640 w 2303280"/>
              <a:gd name="textAreaTop" fmla="*/ 231120 h 925200"/>
              <a:gd name="textAreaBottom" fmla="*/ 694080 h 92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9560" y="6165720"/>
            <a:ext cx="24652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cals or N/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509000" y="5805360"/>
            <a:ext cx="55116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-1260360" y="1628640"/>
          <a:ext cx="9504360" cy="2670480"/>
        </p:xfrm>
        <a:graphic>
          <a:graphicData uri="http://schemas.openxmlformats.org/drawingml/2006/table">
            <a:tbl>
              <a:tblPr/>
              <a:tblGrid>
                <a:gridCol w="1346040"/>
                <a:gridCol w="815832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ncreases     with depth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 acts</a:t>
                      </a:r>
                      <a:r>
                        <a:rPr b="1" lang="en-GB" sz="2400" spc="-1" strike="noStrike">
                          <a:solidFill>
                            <a:srgbClr val="808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equally in all direction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s transmitted through liquid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 Black"/>
              </a:rPr>
              <a:t>Pressure</a:t>
            </a: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 - In liquids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3780000" y="1844640"/>
            <a:ext cx="50472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AutoShape 20"/>
          <p:cNvSpPr/>
          <p:nvPr/>
        </p:nvSpPr>
        <p:spPr>
          <a:xfrm>
            <a:off x="6227640" y="1916280"/>
            <a:ext cx="486000" cy="502920"/>
          </a:xfrm>
          <a:prstGeom prst="downArrow">
            <a:avLst>
              <a:gd name="adj1" fmla="val 50000"/>
              <a:gd name="adj2" fmla="val 2587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AutoShape 21"/>
          <p:cNvSpPr/>
          <p:nvPr/>
        </p:nvSpPr>
        <p:spPr>
          <a:xfrm>
            <a:off x="7164360" y="2492280"/>
            <a:ext cx="1224000" cy="1079640"/>
          </a:xfrm>
          <a:custGeom>
            <a:avLst/>
            <a:gdLst>
              <a:gd name="textAreaLeft" fmla="*/ 122400 w 1224000"/>
              <a:gd name="textAreaRight" fmla="*/ 1101600 w 1224000"/>
              <a:gd name="textAreaTop" fmla="*/ 432000 h 1079640"/>
              <a:gd name="textAreaBottom" fmla="*/ 648000 h 1079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22" descr="brake hydraulic"/>
          <p:cNvPicPr/>
          <p:nvPr/>
        </p:nvPicPr>
        <p:blipFill>
          <a:blip r:embed="rId4"/>
          <a:stretch/>
        </p:blipFill>
        <p:spPr>
          <a:xfrm>
            <a:off x="900000" y="4653000"/>
            <a:ext cx="3384720" cy="17287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 flipV="1" rot="10800000">
            <a:off x="4640400" y="4648680"/>
            <a:ext cx="4179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hydraulics systems work because the pressure is the same throughout the syst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-181080" y="-490680"/>
            <a:ext cx="93250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Moment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Moments make things turn or rotate. 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aused</a:t>
            </a:r>
            <a:r>
              <a:rPr b="1" lang="en-GB" sz="2800" spc="-1" strike="noStrike">
                <a:solidFill>
                  <a:srgbClr val="ff8b1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by forces but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 forces themselv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539640" y="4149720"/>
            <a:ext cx="813600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he moment will be bigger if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causing the turning effect is bigg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is further from the pivo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5110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Black"/>
              </a:rPr>
              <a:t>Calculating the size of a moment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68360" y="3284640"/>
            <a:ext cx="6337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Moment = Force x Dis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987640" y="5445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093080" y="551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Line 8"/>
          <p:cNvSpPr/>
          <p:nvPr/>
        </p:nvSpPr>
        <p:spPr>
          <a:xfrm flipH="1" flipV="1">
            <a:off x="6372360" y="4149360"/>
            <a:ext cx="720720" cy="100980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50920" y="5950080"/>
            <a:ext cx="1800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Black"/>
              </a:rPr>
              <a:t>N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971640" y="4149360"/>
            <a:ext cx="145800" cy="115236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Line 11"/>
          <p:cNvSpPr/>
          <p:nvPr/>
        </p:nvSpPr>
        <p:spPr>
          <a:xfrm flipH="1" flipV="1">
            <a:off x="3708000" y="4149360"/>
            <a:ext cx="144360" cy="108108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sci_dia_90"/>
          <p:cNvPicPr/>
          <p:nvPr/>
        </p:nvPicPr>
        <p:blipFill>
          <a:blip r:embed="rId1"/>
          <a:stretch/>
        </p:blipFill>
        <p:spPr>
          <a:xfrm>
            <a:off x="179280" y="2276640"/>
            <a:ext cx="8569440" cy="34160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0" y="595008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Anti-clockwise Moment = Clockwise Mo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684360" y="836640"/>
            <a:ext cx="46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BALANC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Net moment is ze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2:46:28Z</dcterms:created>
  <dc:creator>HP Authorized Customer</dc:creator>
  <dc:description/>
  <dc:language>en-US</dc:language>
  <cp:lastModifiedBy>RomaK</cp:lastModifiedBy>
  <dcterms:modified xsi:type="dcterms:W3CDTF">2015-09-03T12:35:53Z</dcterms:modified>
  <cp:revision>13</cp:revision>
  <dc:subject/>
  <dc:title>Slide 1</dc:title>
</cp:coreProperties>
</file>